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B1C-5C77-4001-B08F-7585DE4A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6B0-A634-49A9-89F9-758B521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CD4-F26C-41EB-B61D-6E2C3291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829-D896-4C52-8AE1-5791D562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A88-429A-4E8A-9F7E-472C864E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BF0-7A6F-496D-BD88-03537B02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7DF-B7CB-4212-9033-26C7DFF7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597-CDE8-475C-B3C9-8B34915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A0E-999F-410D-A718-96D488AE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0B2-9E12-4EFC-9F83-A8F2FF72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394-05BD-4061-80FF-4B80405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608-D469-4801-A630-AB92A730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AE17-1F0C-4098-9768-D2E8410F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25360"/>
            <a:ext cx="50421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hat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re they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wear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62120" y="752400"/>
            <a:ext cx="401184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Berto is wearing a casual shirt and white trousers.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He wears glasses to work on TV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9640" y="4176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Dr Mateo is wearing a blue suit, white shirt and a tie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His aunt is wearing a dres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The Argentinian barman is wearing a hat, dark t-shirt and and a black waistcoat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The policeman is wearing a uniform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46320" y="620640"/>
            <a:ext cx="462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She’s wearing a </a:t>
            </a:r>
            <a:br>
              <a:rPr sz="7200"/>
            </a:b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dress and high hill sand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6920" y="333360"/>
            <a:ext cx="44308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He’s wearing </a:t>
            </a: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a pink jacket </a:t>
            </a: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a black t-shi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4160" y="0"/>
            <a:ext cx="48452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Angelina is wearing a black dress and Brad a beige jacket and a white shi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923760"/>
            <a:ext cx="749016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Rafa is wearing a grey jacket and trausers, a blue t-shirt and trainer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Marvelis is wearing jeans, a violet t-shirt and  violet boot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The headmaster is wearing a grey jacket and trausers, a white t-shirt and black shoe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Lola is  wearing black jeans, a black jersey and black platform shoes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* He is wearing a jumper, tracksuit trousers and train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8:28:32Z</dcterms:created>
  <dc:creator>I.E.S. FEDERICO GARCIA LORCA</dc:creator>
  <dc:description/>
  <dc:language>en-US</dc:language>
  <cp:lastModifiedBy>I.E.S. FEDERICO GARCIA LORCA</cp:lastModifiedBy>
  <dcterms:modified xsi:type="dcterms:W3CDTF">2009-03-30T08:46:52Z</dcterms:modified>
  <cp:revision>2</cp:revision>
  <dc:subject/>
  <dc:title>Diapositiva 1</dc:title>
</cp:coreProperties>
</file>